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0B1-9896-4D57-9322-BD446464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018-41F2-4148-8057-F190FFD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0E6-13B7-401F-8414-82D83EBB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2AB4-9235-477A-9D52-EC091A3C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3E10-64D9-4301-BDC1-A97E5BD0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B91-0774-4B1E-B355-399D437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AE4A-48B8-47B5-A03E-27899D89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4AD-FFB7-405F-AE8D-69FDD757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5BD6-8274-4850-BFAD-E2BB9189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B679-4083-4D2E-B42E-E0B7555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3C3-6862-46D4-AB28-45406EF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7E4-B4B9-4605-A417-EF1305C5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265-333E-4B1F-8605-39273FE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3BF7-EFF5-4B57-8315-F044D2F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AA2F-2DB1-41AB-8C45-BDDCD6CA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DF8E-A7B9-4A61-A1A3-F03F3A2E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48BC-A607-4144-8BCD-20D03F1D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540-C84E-40F4-91AF-AA69A5B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F2B-3D09-4E01-99DD-C2461DFE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5E5-080F-4CB4-963C-CC11632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9B8-F354-47AB-9162-9E55ECA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A88-E3DC-424E-955F-313CAF86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1D1-C78A-4878-B6F9-EE668B6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DEE-C5B7-4478-A58A-CE7A07D9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F0E-2F6A-45CC-88A3-862EDB4AB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55F-AD8C-47E6-886D-D41A94656375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l Subjuntivo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d How to Use the Subjunctive M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O NOT USE SUBJUNCTIV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ressing facts, beliefs, truth, certainties or the obvio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1828800"/>
          <a:ext cx="7620120" cy="4950000"/>
        </p:xfrm>
        <a:graphic>
          <a:graphicData uri="http://schemas.openxmlformats.org/drawingml/2006/table">
            <a:tbl>
              <a:tblPr/>
              <a:tblGrid>
                <a:gridCol w="3657600"/>
                <a:gridCol w="3962520"/>
              </a:tblGrid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ER /PENSA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o que la película “Up” es excel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believe/think (for a fa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t…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panish expresses certainty, unlike in Engli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 OBVIO/CIERTO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DA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perros son mejores que los ga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’s obvious, certain, true that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DUDA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Sra. Kim es intel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re is no doubt that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BER QU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 sé que mis estudiantes estudian much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 know (for a fact) that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9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so do not use Subjunctiv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en discussing people or things we know exist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hay una secretaria que hable españ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Hay una secretaria que hable españ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í,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ha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secretaria que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habl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añ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uscar…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co una camisa que tenga una foto de Elv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Busc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camisa que </a:t>
            </a:r>
            <a:r>
              <a:rPr b="0" lang="en-US" sz="3200" spc="-1" strike="noStrike">
                <a:solidFill>
                  <a:srgbClr val="dd5774"/>
                </a:solidFill>
                <a:latin typeface="Tahoma"/>
              </a:rPr>
              <a:t>tien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foto de Elv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Tahoma"/>
              </a:rPr>
              <a:t>Subjunctive Conjugations</a:t>
            </a:r>
            <a:br>
              <a:rPr sz="4000"/>
            </a:b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egin with the Yo form, drop –o and add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057400"/>
          <a:ext cx="6934320" cy="44672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/IR 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l, ella, U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sot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é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á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los, ellas, Ud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-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-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Yo irregular verb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er (ca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r (d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r (ha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ir (o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er (po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ir (sal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ir (ve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er (ten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er (traig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ore irregular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914040"/>
            <a:ext cx="77724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ber (quep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ocer (cono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er (na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cer (parezc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ir (construy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ir (destruy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 (ve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em Changing Verb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n Ar or Er verb is stem change in the present tense, there will be a change in the Subjunctive Conjugation, but not in the Nosotros for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r stem changing verbs maintain the stem change of the present tense but for nosotros follow (e-i, o-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2280" y="1066680"/>
          <a:ext cx="8763120" cy="5033880"/>
        </p:xfrm>
        <a:graphic>
          <a:graphicData uri="http://schemas.openxmlformats.org/drawingml/2006/table">
            <a:tbl>
              <a:tblPr/>
              <a:tblGrid>
                <a:gridCol w="2367000"/>
                <a:gridCol w="2131920"/>
                <a:gridCol w="2132280"/>
                <a:gridCol w="2131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initive 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 tense 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sot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i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s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se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r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ue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durm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e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n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rv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er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Hirv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ie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ie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e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firam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3045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tem Changing Verb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rregular Verb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2600" y="2803680"/>
          <a:ext cx="3810240" cy="25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2600" y="2803680"/>
                    <a:ext cx="381024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38080" y="1219320"/>
          <a:ext cx="7696440" cy="5462280"/>
        </p:xfrm>
        <a:graphic>
          <a:graphicData uri="http://schemas.openxmlformats.org/drawingml/2006/table">
            <a:tbl>
              <a:tblPr/>
              <a:tblGrid>
                <a:gridCol w="1881360"/>
                <a:gridCol w="58150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bjunctiv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Esté, estés, esté, estemos, estéis, esté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des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demos, deis, 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ya, vayas, vaya, vayamos, vayáis, vay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, sepas, sepa, sepamos, sepáis, sep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a, hayas, haya, hayamos, hayáis, hay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a, seas, sea, seamos, seáis, s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pelling Changes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Q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A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G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ZA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E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J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GUI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CER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acer and Conocer do not follow the spelling change rule *excep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1295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30481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82880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438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581280"/>
            <a:ext cx="685800" cy="181080"/>
          </a:xfrm>
          <a:prstGeom prst="rightArrow">
            <a:avLst>
              <a:gd name="adj1" fmla="val 50000"/>
              <a:gd name="adj2" fmla="val 94682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4191120"/>
            <a:ext cx="685800" cy="180720"/>
          </a:xfrm>
          <a:prstGeom prst="rightArrow">
            <a:avLst>
              <a:gd name="adj1" fmla="val 50000"/>
              <a:gd name="adj2" fmla="val 94871"/>
            </a:avLst>
          </a:prstGeom>
          <a:solidFill>
            <a:srgbClr val="c47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BJUNCTIVE MOO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n't deal with factual real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ls with opinions, feelings, suppositions, dreams and specu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English the Subjunctive is less apparent. Many times is identical to the infinit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 Spanish, the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ubjunctiv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represent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219320"/>
            <a:ext cx="77724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hings we imagine others doing (or not do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we feel about events that have happened to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encompasses things that are rhetorical in our minds or emotional in our hear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Subjunctive Volition"/>
          <p:cNvPicPr/>
          <p:nvPr/>
        </p:nvPicPr>
        <p:blipFill>
          <a:blip r:embed="rId2"/>
          <a:stretch/>
        </p:blipFill>
        <p:spPr>
          <a:xfrm>
            <a:off x="990720" y="380880"/>
            <a:ext cx="7238880" cy="5429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6065280"/>
            <a:ext cx="7010640" cy="368280"/>
          </a:xfrm>
          <a:prstGeom prst="rect">
            <a:avLst/>
          </a:prstGeom>
          <a:solidFill>
            <a:srgbClr val="fe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eanu </a:t>
            </a:r>
            <a:r>
              <a:rPr b="1" lang="en-US" sz="1800" spc="-1" strike="noStrike">
                <a:solidFill>
                  <a:srgbClr val="c481cf"/>
                </a:solidFill>
                <a:latin typeface="Tahoma"/>
              </a:rPr>
              <a:t>quie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 la profe le </a:t>
            </a:r>
            <a:r>
              <a:rPr b="1" lang="en-US" sz="1800" spc="-1" strike="noStrike" u="sng">
                <a:solidFill>
                  <a:srgbClr val="76b749"/>
                </a:solidFill>
                <a:uFillTx/>
                <a:latin typeface="Tahoma"/>
              </a:rPr>
              <a:t>enví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un mensaje d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t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ubjunctive Emotion"/>
          <p:cNvPicPr/>
          <p:nvPr/>
        </p:nvPicPr>
        <p:blipFill>
          <a:blip r:embed="rId2"/>
          <a:stretch/>
        </p:blipFill>
        <p:spPr>
          <a:xfrm>
            <a:off x="533520" y="0"/>
            <a:ext cx="8134200" cy="618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626256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eanu </a:t>
            </a:r>
            <a:r>
              <a:rPr b="1" lang="en-US" sz="1800" spc="-1" strike="noStrike">
                <a:solidFill>
                  <a:srgbClr val="c481cf"/>
                </a:solidFill>
                <a:latin typeface="Tahoma"/>
              </a:rPr>
              <a:t>se alegr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e QUE la chica</a:t>
            </a:r>
            <a:r>
              <a:rPr b="1" lang="en-US" sz="1800" spc="-1" strike="noStrike">
                <a:solidFill>
                  <a:srgbClr val="76b749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76b749"/>
                </a:solidFill>
                <a:uFillTx/>
                <a:latin typeface="Tahoma"/>
              </a:rPr>
              <a:t>sea</a:t>
            </a:r>
            <a:r>
              <a:rPr b="1" lang="en-US" sz="1800" spc="-1" strike="noStrike">
                <a:solidFill>
                  <a:srgbClr val="76b74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 nov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3 crucial elements that trigger the Subjunctive: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certainty, doubt, subje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different su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f one use Infinitive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ed that (qu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01600">
            <a:off x="5105160" y="4952880"/>
            <a:ext cx="968400" cy="155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15000" y="3200400"/>
            <a:ext cx="213372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19800" y="1447920"/>
            <a:ext cx="19242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SUBJUNCTIVE FORMUL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S1      V1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QUE      </a:t>
            </a:r>
            <a:r>
              <a:rPr b="1" lang="en-US" sz="3600" spc="-1" strike="noStrike">
                <a:solidFill>
                  <a:srgbClr val="dd5774"/>
                </a:solidFill>
                <a:latin typeface="Tahoma"/>
              </a:rPr>
              <a:t>S2        V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666880"/>
          <a:ext cx="8458200" cy="312444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708200"/>
                <a:gridCol w="1644840"/>
                <a:gridCol w="1752480"/>
              </a:tblGrid>
              <a:tr h="33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ect #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Located in re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Conjugates the Indicative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Select one of th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edding v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roduces the subjunctive cl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ect #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erson in the wedding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Conjugates the subjunctive</a:t>
                      </a:r>
                      <a:r>
                        <a:rPr b="0" lang="en-US" sz="20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resen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Im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5774"/>
                          </a:solidFill>
                          <a:latin typeface="Tahoma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52280"/>
          <a:ext cx="8001000" cy="6615360"/>
        </p:xfrm>
        <a:graphic>
          <a:graphicData uri="http://schemas.openxmlformats.org/drawingml/2006/table">
            <a:tbl>
              <a:tblPr/>
              <a:tblGrid>
                <a:gridCol w="981360"/>
                <a:gridCol w="3321000"/>
                <a:gridCol w="369864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WI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ES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MPE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Querer, necesitar, desear, mandar, ordenar, esperar, insistir, decirle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EMO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Alegrarse, enojarse, sentir, asustarse, entristecer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IMPERSO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XPRE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bueno/malo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importante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Es posible que…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ECOMMEND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Recomendar, sugerir, aconsejar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OUB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ENIAL, DISBELI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Tahoma"/>
                        </a:rPr>
                        <a:t>Dudar que, no creer que, negar que, etc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JAL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Ojalá qu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(Let’s hope to God that…God willing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23:25:39Z</dcterms:created>
  <dc:creator>Yung</dc:creator>
  <dc:description/>
  <dc:language>en-US</dc:language>
  <cp:lastModifiedBy>IHS</cp:lastModifiedBy>
  <dcterms:modified xsi:type="dcterms:W3CDTF">2011-04-12T16:19:48Z</dcterms:modified>
  <cp:revision>6</cp:revision>
  <dc:subject/>
  <dc:title>El Subjuntivo</dc:title>
</cp:coreProperties>
</file>